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19A-F11A-4A0D-981F-98EA4F83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FA9-86A5-485F-94BE-114827BC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092-67F8-4460-B353-3208C3F7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BAE-1E1C-4E94-9BCE-E6E632EA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7BA-9A23-49B6-9AFB-9FC13559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453-E7E0-417A-BA59-3B606E24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E47-A5C0-4BCC-AD66-95DAF634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EFFA-AB51-4501-A69F-8E3441B5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0EB-EE1E-4EFB-888A-4896CBF0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1F2-8004-467C-BA94-7615CBC6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991-B759-4AFC-BECF-DD3D4E63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4C0-C947-4CEB-899B-7893D811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6C69-D622-432C-881A-3B3E29836E5C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LAITTE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 u="sng">
                <a:solidFill>
                  <a:srgbClr val="0000ff"/>
                </a:solidFill>
                <a:uFillTx/>
                <a:latin typeface="Arial"/>
              </a:rPr>
              <a:t>Mikron oheislaitt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5050"/>
                </a:solidFill>
                <a:latin typeface="Arial"/>
              </a:rPr>
              <a:t>oheisliitänn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5050"/>
                </a:solidFill>
                <a:latin typeface="Arial"/>
              </a:rPr>
              <a:t>kirjoitti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5050"/>
                </a:solidFill>
                <a:latin typeface="Arial"/>
              </a:rPr>
              <a:t>näytö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5050"/>
                </a:solidFill>
                <a:latin typeface="Arial"/>
              </a:rPr>
              <a:t>verkkokortit ja multimedialaitt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3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ikrotietokonelaittei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näytt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näppäimistö ja hii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keskusyksikk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Keskusyksikön toiminnalliset lohk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virtaläh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keskusmui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laajennusväyl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massamuistilaitteet ja väyl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791320" y="4495680"/>
            <a:ext cx="2851200" cy="1898640"/>
            <a:chOff x="5791320" y="4495680"/>
            <a:chExt cx="2851200" cy="189864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6705720" y="4495680"/>
              <a:ext cx="1936800" cy="18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4800600"/>
              <a:ext cx="2009880" cy="159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09:57:52Z</dcterms:created>
  <dc:creator>atk</dc:creator>
  <dc:description/>
  <dc:language>en-US</dc:language>
  <cp:lastModifiedBy>Kurssi</cp:lastModifiedBy>
  <dcterms:modified xsi:type="dcterms:W3CDTF">2003-02-17T11:12:03Z</dcterms:modified>
  <cp:revision>4</cp:revision>
  <dc:subject/>
  <dc:title>LAITTEET </dc:title>
</cp:coreProperties>
</file>